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6723F-ED68-4EBB-BBBE-C98EB0CAE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42002-6999-47F5-80F8-291AA7C1C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A6F7B-4493-4A2F-8817-B1B7106AD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2AE19-B6D8-4A06-BB93-B9FC268D2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1A6E1-91D9-46CA-BF79-6E3EC2DF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A36B3-D590-44DD-AE42-2A60AFB07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E424A-2DF0-4839-832E-03A999AD6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DF2F0-2C83-4D9C-A3BA-F07C421CA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0D2C1-C371-4C03-8736-E84162A8A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9423-1CD9-4DAB-B3CF-A1ADFAEF6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A6DA2-B3F4-4927-BEF3-AAF3A4B59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B2E9-C9BC-447F-A99B-5F977A41C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FF98-7E72-4CA1-AE15-70DE8B4BF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astellar"/>
              </a:rPr>
              <a:t>Mi viaje al la Venezuel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Brynne Pit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stellar"/>
              </a:rPr>
              <a:t>El Balneario</a:t>
            </a:r>
            <a:endParaRPr b="0" lang="en-US" sz="4400" spc="-1" strike="noStrike">
              <a:solidFill>
                <a:srgbClr val="000000"/>
              </a:solidFill>
              <a:latin typeface="Arial"/>
            </a:endParaRPr>
          </a:p>
        </p:txBody>
      </p:sp>
      <p:sp>
        <p:nvSpPr>
          <p:cNvPr id="4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Quiero papá,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	</a:t>
            </a:r>
            <a:r>
              <a:rPr b="0" lang="en-US" sz="2000" spc="-1" strike="noStrike">
                <a:solidFill>
                  <a:srgbClr val="ffffff"/>
                </a:solidFill>
                <a:latin typeface="Bradley Hand ITC"/>
              </a:rPr>
              <a:t>¡Hola! Hoy hace buen tiempo. El sol brilla en al cielo, y hace muy calor. Llegué a la Castellana Hotel en Caracas, Venezuela. Es muy grande y bonita, y el piscina es muy grande. Hay ciento noventa y tres cuartos en la Castellena. Caracas es muy interesantes. ¡Estoy muy emociona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Besos y abrazo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	</a:t>
            </a:r>
            <a:r>
              <a:rPr b="0" lang="en-US" sz="2000" spc="-1" strike="noStrike">
                <a:solidFill>
                  <a:srgbClr val="ffffff"/>
                </a:solidFill>
                <a:latin typeface="Bradley Hand ITC"/>
              </a:rPr>
              <a:t>Brynn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Narrow"/>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Castellar"/>
              </a:rPr>
              <a:t>LosTiend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Querida Justin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	</a:t>
            </a:r>
            <a:r>
              <a:rPr b="0" lang="en-US" sz="1800" spc="-1" strike="noStrike">
                <a:solidFill>
                  <a:srgbClr val="ff0000"/>
                </a:solidFill>
                <a:latin typeface="Constantia"/>
                <a:ea typeface="Arial"/>
              </a:rPr>
              <a:t>¡Hola! Hoy hace buen tiempo. ¡Es perfecto! Estoy en Caracas, Venezuela. Fuí al el Fashion Mall Tolón. El Fashion Mall Tolón es muy populare. Me comí mucha comida. ¡Hay muchas tiendas en Caracas! Tambien, fuí a la Edificio la Francia para un par de aretes. ¡Estas vacaciones es divertido!</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Con todo mi afecto,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	</a:t>
            </a:r>
            <a:r>
              <a:rPr b="0" lang="en-US" sz="1800" spc="-1" strike="noStrike">
                <a:solidFill>
                  <a:srgbClr val="ff0000"/>
                </a:solidFill>
                <a:latin typeface="Constantia"/>
                <a:ea typeface="Arial"/>
              </a:rPr>
              <a:t>Brynn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stellar"/>
              </a:rPr>
              <a:t>La Ropa</a:t>
            </a:r>
            <a:endParaRPr b="0" lang="en-US" sz="4400" spc="-1" strike="noStrike">
              <a:solidFill>
                <a:srgbClr val="000000"/>
              </a:solidFill>
              <a:latin typeface="Arial"/>
            </a:endParaRPr>
          </a:p>
        </p:txBody>
      </p:sp>
      <p:sp>
        <p:nvSpPr>
          <p:cNvPr id="48" name="PlaceHolder 2"/>
          <p:cNvSpPr>
            <a:spLocks noGrp="1"/>
          </p:cNvSpPr>
          <p:nvPr>
            <p:ph/>
          </p:nvPr>
        </p:nvSpPr>
        <p:spPr>
          <a:xfrm>
            <a:off x="1523880" y="1600200"/>
            <a:ext cx="5943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Querida Maddi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	</a:t>
            </a:r>
            <a:r>
              <a:rPr b="0" lang="en-US" sz="1800" spc="-1" strike="noStrike">
                <a:solidFill>
                  <a:srgbClr val="33cc33"/>
                </a:solidFill>
                <a:latin typeface="Arial"/>
                <a:ea typeface="Arial"/>
              </a:rPr>
              <a:t>¡Hola, amiga! Hace muy bueno tiempo hoy. Tengo una semana en Caracas. Tengo siete pares de pantalones cortos, y siete camisas. Llevé los pantalones cortos verde, y una camisa blanca. Tengo dos pares de tenis, y un pares de sandalias. Tambien, tengo dos bañadores, y dos toallas playera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Con todo mi cariñ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	</a:t>
            </a:r>
            <a:r>
              <a:rPr b="0" lang="en-US" sz="1800" spc="-1" strike="noStrike">
                <a:solidFill>
                  <a:srgbClr val="33cc33"/>
                </a:solidFill>
                <a:latin typeface="Arial"/>
                <a:ea typeface="Arial"/>
              </a:rPr>
              <a:t>Bry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Museo</a:t>
            </a:r>
            <a:endParaRPr b="0" lang="en-US" sz="4400" spc="-1" strike="noStrike">
              <a:solidFill>
                <a:srgbClr val="000000"/>
              </a:solidFill>
              <a:latin typeface="Arial"/>
            </a:endParaRPr>
          </a:p>
        </p:txBody>
      </p:sp>
      <p:sp>
        <p:nvSpPr>
          <p:cNvPr id="50" name="PlaceHolder 2"/>
          <p:cNvSpPr>
            <a:spLocks noGrp="1"/>
          </p:cNvSpPr>
          <p:nvPr>
            <p:ph/>
          </p:nvPr>
        </p:nvSpPr>
        <p:spPr>
          <a:xfrm>
            <a:off x="-360" y="-360"/>
            <a:ext cx="8001000" cy="2971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urlz MT"/>
              </a:rPr>
              <a:t>Querido mamá,</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urlz MT"/>
              </a:rPr>
              <a:t>	</a:t>
            </a:r>
            <a:r>
              <a:rPr b="0" lang="en-US" sz="1800" spc="-1" strike="noStrike">
                <a:solidFill>
                  <a:srgbClr val="ffffff"/>
                </a:solidFill>
                <a:latin typeface="Curlz MT"/>
                <a:ea typeface="Arial"/>
              </a:rPr>
              <a:t>¡Hola, madre! En Venezuela, el sol brilla en el cielo hoy. Hay pocas nubes en el cielo. Hoy, fuí a el Museo Bolivariano. ¡El museo es muy interesante! Muchos objeots son allí. Yo no fuí a la Parque del Este hoy. Es un parque muy bonit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Beso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	</a:t>
            </a:r>
            <a:r>
              <a:rPr b="0" lang="en-US" sz="1800" spc="-1" strike="noStrike">
                <a:solidFill>
                  <a:srgbClr val="ffffff"/>
                </a:solidFill>
                <a:latin typeface="Curlz MT"/>
                <a:ea typeface="Arial"/>
              </a:rPr>
              <a:t>Bry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que Nacional Mochima</a:t>
            </a:r>
            <a:endParaRPr b="0" lang="en-US" sz="4400" spc="-1" strike="noStrike">
              <a:solidFill>
                <a:srgbClr val="000000"/>
              </a:solidFill>
              <a:latin typeface="Arial"/>
            </a:endParaRPr>
          </a:p>
        </p:txBody>
      </p:sp>
      <p:sp>
        <p:nvSpPr>
          <p:cNvPr id="52" name="PlaceHolder 2"/>
          <p:cNvSpPr>
            <a:spLocks noGrp="1"/>
          </p:cNvSpPr>
          <p:nvPr>
            <p:ph/>
          </p:nvPr>
        </p:nvSpPr>
        <p:spPr>
          <a:xfrm>
            <a:off x="533520" y="3124080"/>
            <a:ext cx="8229600" cy="3276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cript MT Bold"/>
              </a:rPr>
              <a:t>Querido Sammy,</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cript MT Bold"/>
              </a:rPr>
              <a:t>	</a:t>
            </a:r>
            <a:r>
              <a:rPr b="0" lang="en-US" sz="1800" spc="-1" strike="noStrike">
                <a:solidFill>
                  <a:srgbClr val="ffffff"/>
                </a:solidFill>
                <a:latin typeface="Script MT Bold"/>
                <a:ea typeface="Arial"/>
              </a:rPr>
              <a:t>¡Hola! Hoy es sol y el tiempo es bueno. Fuí a el Parque Nacional Mochima, con muchas playas bonitas. Yo nadé y buceé en el agua. ¡Fué muy divertido! Traje una toalla playera, los gafas de sol, y un traje de baño. El sol brilla en el cielo hoy. Cuando fuí al hotel, you estoy muy cansado. ¡Adio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Un abrazo,</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	</a:t>
            </a:r>
            <a:r>
              <a:rPr b="0" lang="en-US" sz="1800" spc="-1" strike="noStrike">
                <a:solidFill>
                  <a:srgbClr val="ffffff"/>
                </a:solidFill>
                <a:latin typeface="Script MT Bold"/>
                <a:ea typeface="Arial"/>
              </a:rPr>
              <a:t>Bry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3:57:19Z</dcterms:created>
  <dc:creator>pittbry</dc:creator>
  <dc:description/>
  <dc:language>en-US</dc:language>
  <cp:lastModifiedBy>pittbry</cp:lastModifiedBy>
  <dcterms:modified xsi:type="dcterms:W3CDTF">2012-11-29T18:26:33Z</dcterms:modified>
  <cp:revision>5</cp:revision>
  <dc:subject/>
  <dc:title>Mi viaje al la Venezuela</dc:title>
</cp:coreProperties>
</file>